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26370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3" descr=""/>
          <p:cNvPicPr/>
          <p:nvPr/>
        </p:nvPicPr>
        <p:blipFill>
          <a:blip r:embed="rId2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  <p:sp>
        <p:nvSpPr>
          <p:cNvPr id="38" name="Text Box 4"/>
          <p:cNvSpPr/>
          <p:nvPr/>
        </p:nvSpPr>
        <p:spPr>
          <a:xfrm>
            <a:off x="0" y="1557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Análise da Viabilidade Técnica de Empreendimentos</a:t>
            </a:r>
            <a:endParaRPr b="1" lang="en-US" sz="4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MINHA CASA MINHA VIDA</a:t>
            </a:r>
            <a:endParaRPr b="1" lang="en-US" sz="4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179280" y="692280"/>
            <a:ext cx="8280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Característica das </a:t>
            </a:r>
            <a:endParaRPr b="1" lang="en-US" sz="4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Análises</a:t>
            </a:r>
            <a:endParaRPr b="1" lang="en-US" sz="4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9"/>
          <p:cNvSpPr/>
          <p:nvPr/>
        </p:nvSpPr>
        <p:spPr>
          <a:xfrm>
            <a:off x="900000" y="1916280"/>
            <a:ext cx="7489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35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1 – Empreendimentos para faixa de renda de 3 a 10 SM – 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Análise baseada no valor de mercado do empreendimento.   Valor Máximo de Avaliação: BH e Região Metropolitana – R$ 100.000,00; Interior do Estado/MG – R$ 80.000,00.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135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2- </a:t>
            </a: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mpreendimentos para faixa de renda de 0 a 3 SM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:            Análise baseada no custo implantação do empreendimento.   Valor Máximo de Custo: BH e Região Metropolitana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Trebuchet MS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Trebuchet MS"/>
              </a:rPr>
              <a:t>Casa: R$ 42.000,00  - Apartamento R$ 46.000,00; 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Interior do Estado/MG – </a:t>
            </a:r>
            <a:r>
              <a:rPr b="0" lang="pt-BR" sz="2000" spc="-1" strike="noStrike">
                <a:solidFill>
                  <a:srgbClr val="333399"/>
                </a:solidFill>
                <a:latin typeface="Trebuchet MS"/>
              </a:rPr>
              <a:t>Casa: R$ 38.000,00  - Apartamento R$ 42.000,00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17928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Tipos de Análise</a:t>
            </a:r>
            <a:endParaRPr b="1" lang="en-US" sz="4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900000" y="1628640"/>
            <a:ext cx="7489800" cy="37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35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1 – Pré-Análise : 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Exame preliminar de área, anteprojeto e avaliação do imóvel antes da apresentação da documentação completa necessária para análise técnica da proposta.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135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2- </a:t>
            </a: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nálise Técnica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: Verifica a viabilidade técnica da proposta, englobando a área de intervenção e entorno, projetos, especificações, custos, incorporações, viabilidade econômico-financeira e adequação aos objetivos e orientações dos Programas.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79280" y="33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Documentação  Técnica </a:t>
            </a:r>
            <a:endParaRPr b="1" lang="en-US" sz="4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1042920" y="1484280"/>
            <a:ext cx="7489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35000"/>
              </a:lnSpc>
              <a:spcBef>
                <a:spcPts val="1250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 análise técnica de engenharia será fundamentada exclusivamente na documentacao solicitada no check-list. E só terá início quando essa documentaçao for apresentada completa na CAIXA.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- Check-List Pré-análise 0 -3 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68360" y="189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Especificação dos Empreendimentos</a:t>
            </a:r>
            <a:endParaRPr b="1" lang="en-US" sz="4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11920" y="2133720"/>
            <a:ext cx="23979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1 – Casas</a:t>
            </a:r>
            <a:endParaRPr b="1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rebuchet MS"/>
              </a:rPr>
              <a:t>2- Apartamentos</a:t>
            </a:r>
            <a:endParaRPr b="1" lang="en-US" sz="2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187280" y="26028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Análise do Terreno e Entorno</a:t>
            </a:r>
            <a:endParaRPr b="1" lang="en-US" sz="4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1042920" y="2060640"/>
            <a:ext cx="7489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35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􀂃 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infraestrutura disponível no entorno; (abastecimento de água, energia elétrica, iluminação pública, solução de esgotamento sanitário, coleta de lixo, solução para transporte coletivo, pavimentação e drenagem pluvial;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135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􀂃 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as condições topográficas  e  ambientais;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135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􀂃 </a:t>
            </a:r>
            <a:r>
              <a:rPr b="0" lang="en-US" sz="2000" spc="-1" strike="noStrike">
                <a:solidFill>
                  <a:srgbClr val="003399"/>
                </a:solidFill>
                <a:latin typeface="Trebuchet MS"/>
              </a:rPr>
              <a:t>Ocupação do terreno e do entorno;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95280" y="1557360"/>
            <a:ext cx="846288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Análise de custo por parâmetros definidos;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Terreno: Valor Avaliado pela CAIXA.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Edificação: (Apartamentos: R$ 630,00/m² : Casa : em estudo).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Equipamentos de Uso Comum: 1% do custo de Edif. e Infra.Infra-Estrutura: Parâmetro em Estudo.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Outras Despesas.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Serviços Preliminares – Limitado a 10% do valor dos obras de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habitação. 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  </a:t>
            </a: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Encargos Sociais – De acordo com estudo apresentado pelo     SINDUSCON/MG, já contemplado no custo unitário da obra.</a:t>
            </a:r>
            <a:r>
              <a:rPr b="1" lang="pt-BR" sz="2000" spc="-1" strike="noStrike">
                <a:solidFill>
                  <a:srgbClr val="003399"/>
                </a:solidFill>
                <a:latin typeface="Trebuchet MS"/>
              </a:rPr>
              <a:t>  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89080" y="189000"/>
            <a:ext cx="8854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Arial Black"/>
              </a:rPr>
              <a:t>Características das</a:t>
            </a:r>
            <a:endParaRPr b="1" lang="en-US" sz="4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Arial Black"/>
              </a:rPr>
              <a:t>Análises 0-3 SM</a:t>
            </a:r>
            <a:endParaRPr b="1" lang="en-US" sz="42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95280" y="1773360"/>
            <a:ext cx="8462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BDI 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adrão para os projetos 16%. Pode ser acatado, exc</a:t>
            </a: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pcionalmente, um índice de BDI de até 22 %, aberto e Justificado item a item de acordo com a tabela abaixo: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260280"/>
            <a:ext cx="8854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Arial Black"/>
              </a:rPr>
              <a:t>Características das</a:t>
            </a:r>
            <a:endParaRPr b="1" lang="en-US" sz="4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Arial Black"/>
              </a:rPr>
              <a:t>Análises 0-3 SM</a:t>
            </a:r>
            <a:endParaRPr b="1" lang="en-US" sz="42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360" y="3716280"/>
          <a:ext cx="8236080" cy="2022480"/>
        </p:xfrm>
        <a:graphic>
          <a:graphicData uri="http://schemas.openxmlformats.org/drawingml/2006/table">
            <a:tbl>
              <a:tblPr/>
              <a:tblGrid>
                <a:gridCol w="2952720"/>
                <a:gridCol w="1438200"/>
                <a:gridCol w="3845160"/>
              </a:tblGrid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Item Componente do BDI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Médio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LIMITE CAIXA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Garantia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0,21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0,21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Risco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0,97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2,05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Despesas Financeiras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0,59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0,59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Administração Central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4,07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8,03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Lucro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6,90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9,96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Tributo Municipal – ISS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2,00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De acordo com a legislação Municipal 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Tributos Federais (RET)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1,00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1,00 %</a:t>
                      </a:r>
                      <a:endParaRPr b="1" lang="en-US" sz="1200" spc="-1" strike="noStrike" u="sng">
                        <a:solidFill>
                          <a:srgbClr val="003399"/>
                        </a:solidFill>
                        <a:uFillTx/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50280" y="6237000"/>
            <a:ext cx="81115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35000"/>
              </a:lnSpc>
              <a:spcBef>
                <a:spcPts val="1312"/>
              </a:spcBef>
              <a:spcAft>
                <a:spcPts val="1312"/>
              </a:spcAft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Fonte: Acórdão TCU Plenário 325/2007, obtido em 31 AGO 2009 no http://portal2.tcu.gov.br/TCU</a:t>
            </a:r>
            <a:endParaRPr b="1" lang="en-US" sz="14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24000" y="692280"/>
            <a:ext cx="806436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 (W1)"/>
              </a:rPr>
              <a:t>GIDURBH – Gerência de Apoio ao Desenvolvimento Urbano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Verdana"/>
              </a:rPr>
              <a:t>Jáder da Cunha Filho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Verdana"/>
              </a:rPr>
              <a:t>Gerente de Serviços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e-mail CAIXA/GIDUR/BH: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gidurbh@caixa.gov.br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Tel: (31) 3248-5200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Verdana"/>
              </a:rPr>
              <a:t>Obrigado!</a:t>
            </a:r>
            <a:endParaRPr b="1" lang="en-US" sz="3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mic Sans MS"/>
              </a:rPr>
              <a:t>VIGOV - Nosso negócio é fazer um país melhor!</a:t>
            </a: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  <a:p>
            <a:pPr marL="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3399"/>
              </a:solidFill>
              <a:uFillTx/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17:29:48Z</dcterms:created>
  <dc:creator>Matriz</dc:creator>
  <dc:description/>
  <dc:language>en-US</dc:language>
  <cp:lastModifiedBy>c052780</cp:lastModifiedBy>
  <dcterms:modified xsi:type="dcterms:W3CDTF">2009-10-29T19:51:30Z</dcterms:modified>
  <cp:revision>124</cp:revision>
  <dc:subject/>
  <dc:title>Slide 1</dc:title>
</cp:coreProperties>
</file>